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AD1F-C748-4AE2-8622-B58BABEA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184-48DE-4038-9359-EB200216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7BB-FC42-4799-9778-34580D0C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F5D-F543-416F-A39B-9C2B7445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CD5-4087-466E-9069-BCB2B4D8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CAC-B497-4456-801A-8B68129B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8209-DC8F-4403-BADC-2AF14640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B1C-55AA-4AC8-8B43-9CAFAB7B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792-C70D-454B-9D5E-83C87D7E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152F-F175-4BA8-B4BF-BA537D78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E54-E7EA-40F0-8854-BB1A9391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F61-B851-4019-BC00-46C3002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EFEF-DB90-49CC-BAEE-496FD22A0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ap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 Y. Clar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n abse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clark@cshl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d 0.08 on August 15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0.09 to be released immin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optimizations to increase speed when rendering and creating name-based correspond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HTML administration 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ng RS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G outp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(generic) table structure to allow for things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feature tables (more than just names and positions) with curator-defin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bxr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ility in choosing/zooming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y due Novemb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8:07:46Z</dcterms:created>
  <dc:creator>Ken Clark</dc:creator>
  <dc:description/>
  <dc:language>en-US</dc:language>
  <cp:lastModifiedBy>Ken Clark</cp:lastModifiedBy>
  <dcterms:modified xsi:type="dcterms:W3CDTF">2003-09-10T18:58:49Z</dcterms:modified>
  <cp:revision>1</cp:revision>
  <dc:subject/>
  <dc:title>CMap Update</dc:title>
</cp:coreProperties>
</file>